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3AB-E3C6-4F83-A1E7-1651B880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588-1196-43BF-BDD2-A99E6EE9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4EE-7412-4BDA-978D-BF9C1B4B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70D-6408-4FE2-BDF4-4D8BF508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B444-6317-495D-99CA-F7C66D6A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43FE-C9B1-4477-8B6B-6EECC2FB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5575-99AF-43A1-923C-CDCC1EEA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D4D-D8BB-428F-882B-4F28195B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A3B7-5978-4F9D-B656-4F310C3C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42A9-8F15-425F-A156-BB68D0E3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9DDA-E188-4C0D-8859-11AAF672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445-ADB0-4C33-BEEE-69237F9B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3A6B-5BBD-4564-85FC-C92D8D5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563F-5BB5-492A-BFD3-3D0761D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65E4-9650-4D6C-A998-F90E70F6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9C82-C868-4BDF-8F7F-DFBC684B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9BB1-F05B-4F80-BBAF-CD5DFD39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544-D6B0-4CAC-B897-45DA3BD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327-871C-4101-B9B0-0760D68F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4DF-299F-4A61-9152-40E097BE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D1D-8054-457C-B474-794B5397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CC8-DDA3-4933-96DB-187443C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0A2-6F23-433F-96F4-6EC6ED65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A0D-5B2E-4ECD-8B8D-FC370828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F65-7403-4426-ABC3-A589980D0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10F-BED5-40AF-A593-256958149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lving Word 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ok for clue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e are some CLUE WORDS that will help you decide what to d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2540160" cy="28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ddi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btrac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mo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are lef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ultiplica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i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 o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ied b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y (dimensio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vis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uotient of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vided b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alf for a fra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muc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li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parat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ut u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haring something equal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ja-JP" sz="6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 look at the example again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6 birds in his backyard.  Today, he saw 3 times as many as yesterday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see any CLUE WORD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said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ree times” and “in all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ja-JP" sz="6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imes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 us that we should multiply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ll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 us that we should AD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hat we UNDERSTAND the problem, and have a PLAN, we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 ready for the next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i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 number sentence using the information in the problem, and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ork it ou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552840" cy="374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 scare me!</a:t>
            </a: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rcRect l="12073" t="25242" r="36218" b="5257"/>
          <a:stretch/>
        </p:blipFill>
        <p:spPr>
          <a:xfrm>
            <a:off x="5105520" y="1752480"/>
            <a:ext cx="291456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ive it a try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6 birds in his backyard.  Today, he saw 3 times as many as yesterday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 number sentence and SOLVE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wrote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 + (3 x 6) = 24 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ja-JP" sz="6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 BA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es your answer fit the ques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68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68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d to find out how many birds Alex saw in 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we had to multiply 6 by 3 to tell us how many he saw today.  Then we added the number he saw yesterday to the number he saw to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r answer was 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ex saw 24 birds in all.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 makes sense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did i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are Word Problem Whizze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08952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768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768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1" dur="76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3" dur="76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re are the steps once more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NDERSTAND the probl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2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Get a PLA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3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OLVE i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4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LOOK BA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y for some more practi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mathplayground.com/gsmbegin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mathplayground.com/mathhoops_Z1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more time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mathplayground.com/wordproblems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ee if you can pick out the clue word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27432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thatquiz.org/tq/practicetest?8ydrp8w15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 make me nervous!</a:t>
            </a: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2768760" cy="43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?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just skip them!</a:t>
            </a: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92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0" lang="ja-JP" sz="4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 Worry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5680" y="1828800"/>
            <a:ext cx="426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just 4 easy steps, you can become…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Word Problem Whi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332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DERSTAND the probl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you trying to figure o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an exampl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6 birds in his backyard.  Today, he saw 3 times as many as yesterday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roblem, what are you trying to figure ou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said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birds did Alex see in all?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ja-JP" sz="6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t a PLA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ill you answer the ques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uld you ADD,SUBTRACT,  MULTIPLY, OR DIVID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2:51:05Z</dcterms:created>
  <dc:creator>Donnell</dc:creator>
  <dc:description/>
  <dc:language>en-US</dc:language>
  <cp:lastModifiedBy>kim.nelson Nelson</cp:lastModifiedBy>
  <dcterms:modified xsi:type="dcterms:W3CDTF">2011-11-19T13:25:30Z</dcterms:modified>
  <cp:revision>21</cp:revision>
  <dc:subject/>
  <dc:title>Solving Word Problems</dc:title>
</cp:coreProperties>
</file>